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FBDF3-5F15-49AE-B6B7-21BA81458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B8FD6-BFBC-4ED7-8D34-A7A77441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9FA2C-0E0B-4BBA-8B77-1E3A58F6D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73A7F-1D6B-42B7-B43E-A166D27E5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DCEB-CDC7-4545-88BB-10010FD05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42416-7429-478F-AB4D-6AF6770A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9D41-7E1A-426C-9EFA-FDBA5976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8FBE-3706-40A0-B78F-A631214B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F06A-5F54-4B6A-BEF0-F32B10F6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16DD-1C46-4D9B-878A-9284F624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60B6-27DC-45E0-8528-66DF92BB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C8EEA-A4CF-4246-AFA7-A840631E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AB5C-C3A4-465F-9B83-E881E6A3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920A-4E85-444E-9352-FDA62624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344E-2C74-4FB3-A6F4-3B2D6763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78839-8B71-4FFF-B30A-040E2FD98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E2F4-F144-4D0D-8E94-5E67B3070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223C8-41B9-4A50-B3E2-FB091BF6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7C075-ECE2-4717-819B-1281CCEA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940F5-DE1E-48E6-9272-DEA23EB9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35F5D-6BAF-4A58-A8DC-BFF920F9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E8649-78DD-453D-B7AE-2782BC95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175AF-C853-427A-9C52-3EDC3012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4F8A3-B2FC-472F-8A42-B7889FC3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9634-59CE-4189-9B8F-B6B8A645E8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FCDF-8BB7-48F5-8B14-9A8E7C7FDE7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dfdef6"/>
                </a:solidFill>
                <a:latin typeface="Arial"/>
              </a:rPr>
              <a:t>Причины кризиса 2008 года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Главная причина мирового финансового кризиса 2008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года - проблемы ипотечного кредитования в США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5651640" y="3789360"/>
            <a:ext cx="32382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fdef6"/>
                </a:solidFill>
                <a:latin typeface="Times New Roman"/>
              </a:rPr>
              <a:t>Причины финансового кризиса 2008 года в России: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84360" y="2097720"/>
            <a:ext cx="8173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128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ировой финансовый кризис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1128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становившийся рост фондовых индексов и их дальнейшее обруш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1128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ассовый отток капитала за рубеж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1128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езкое падение мировых цен на неф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1128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Зависимость российской экономики от мировых цен на энергоносител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пад промышленности по итогам 2008 г. составил 7,4 процен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наиболее сложной экономической ситуации находятся отрасли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еталлурги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ашиностроени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химическая промышленность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втомобилестроени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обыча полезных ископаем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def6"/>
                </a:solidFill>
                <a:latin typeface="Times New Roman"/>
              </a:rPr>
              <a:t>Инфляция в Росси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январь 2007 года – 1,7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январь 2008 года – 2,3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январь 2009 года – 2,4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4648320" y="1600200"/>
          <a:ext cx="4030560" cy="2190600"/>
        </p:xfrm>
        <a:graphic>
          <a:graphicData uri="http://schemas.openxmlformats.org/drawingml/2006/table">
            <a:tbl>
              <a:tblPr/>
              <a:tblGrid>
                <a:gridCol w="4030560"/>
              </a:tblGrid>
              <a:tr h="219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4211640" y="1628640"/>
          <a:ext cx="4932360" cy="36100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11640" y="1628640"/>
                    <a:ext cx="493236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нфляция за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квартал 2009 - 5,3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нфляция в 2009 г. по предварительным данным составит около 13%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По результатам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I 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квартала 2009 года количество безработных в России составило 7,1 миллионов челове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fdef6"/>
                </a:solidFill>
                <a:latin typeface="Times New Roman"/>
              </a:rPr>
              <a:t>Уровень безработицы по России (в тыс. чел.)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нварь 2007 года – 17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нварь 2008 года – 146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нварь 2009 года – 28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3995640" y="1844640"/>
          <a:ext cx="5148360" cy="39276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95640" y="1844640"/>
                    <a:ext cx="5148360" cy="39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6:58:17Z</dcterms:created>
  <dc:creator>Admin</dc:creator>
  <dc:description/>
  <dc:language>en-US</dc:language>
  <cp:lastModifiedBy>Admin</cp:lastModifiedBy>
  <dcterms:modified xsi:type="dcterms:W3CDTF">2009-05-28T07:36:10Z</dcterms:modified>
  <cp:revision>5</cp:revision>
  <dc:subject/>
  <dc:title>Причины кризиса 2008 года</dc:title>
</cp:coreProperties>
</file>