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B26F-F184-4913-935A-5FCA41E7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333F-6C13-4003-A8AE-3A0DC6C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3918-ADEA-4FBE-84C3-F02EE233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337B-650B-4746-A0A5-CA273D12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A150-1005-4348-A546-B651540F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306-CDF3-42CF-BC3F-EF45AE0D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18D2-0545-4AE9-8C73-A78B407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610-09A8-4DB1-9463-DE657E6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7093-7558-402E-968A-A546635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063-25EB-4858-9DEB-C9F8329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C88-D171-495A-95EF-B68652C7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5350-9488-464B-A337-990048E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4004-CB06-4A0F-867F-29929309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D8F-44D8-4CAB-8A46-9B7B77A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C24A-644C-4450-B6A7-64844AC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8CA4-D7F1-46EE-8B0F-84270F92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7DD-59EC-4D5C-9ACF-CABE9129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F110-DC40-4F00-B23E-99530B36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D9F9-1EFD-402A-BDCE-56041A9F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BD67-ADFD-423B-98A4-DD14B39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44A9-0863-42E4-A1B1-3D5CF618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BC9F-C2C6-4414-BD82-50D0450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B7D4-7F2D-4869-B158-457BC1F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39E7-705F-40AB-90D5-D9E8146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C8F-4C4F-4D01-AD4B-5768D5908A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C11-CBC5-4E14-9DDF-B7F96F6DA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Антикризисные меры Российского правительства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 Система рыночных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кономических отношений не является совершенной и саморегулируемой, максимально возможную занятость и экономический рост может обеспечить только </a:t>
            </a: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активное вмешательство государства в экономику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 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Джон  Кейнс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0106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ддержка банковской системы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няты ФЗ –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О дополнительных мерах по поддержке финансовой системы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О внесении изменений в статью 46 ФЗ «О Центральном банке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304920"/>
            <a:ext cx="7162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ддержка строительной отрасли экономи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меньшение сроков регистрации прав на жильё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имулирование развития ипотечного кредитования путём индексации процентных ставок для населения за счёт госбюджет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изить себестоимость строительства жилья путём снижения стоимости подключения новостроек к инфраструктуре и инженерным сетям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грамма поддержки предпринимательства и малого бизнес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мощь в расширении внутреннего спроса на продукцию отечественной промышленност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здание производств в высокотехнологичных областях экономи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армонизация соотношения импортной и отечественной продукц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формирование института банкротства предприятий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веден мораторий на все проверки для малого бизнес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ширение видов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нтикризисные меры включают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силение социальной защиты насел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ahoma"/>
              </a:rPr>
              <a:t>финансирование национальных проектов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Здоровье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Образование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Жильё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Развитие АПК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Информационное общество»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Энергоэффективность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3049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государственная поддержка сферы занят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нансирование профессиональной подготовки кадров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ую переподготовку 165 тыс. гражданам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отирование рабочих мест для молодых специалистов и инвалидов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здание 900 тыс. временно рабочих мест (общественные работы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ка для развития собственного бизнеса 55 тыс. человек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мощь с переездом 15 тыс. че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Ипотечное кредитование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убсидирование ипотечных ставок до 7-11% годовых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срочное использование материнского капитала на погашение кредит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 многое друго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09-05-28T06:53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