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FFA02-98A8-490E-B3DC-0A0E45D6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D2932-961F-473E-ACA4-2E4ED055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4F06C-F1E0-4319-BE2E-AA2DC3B8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B1265-729A-4D4B-A3FE-5529EE0B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E197-9F01-484F-BF2C-D227BE36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BD28-6741-45D2-AEDD-B160B856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E171-B4FD-4BDC-AF85-FA69A60E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36EF-9FF4-4C6B-BA15-8CBFE555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D3ED-82A9-4E38-8655-3981229B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6AE3-B030-4FBD-BCE5-2A432E0A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3B58-71AB-4B50-986D-4C7F6831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BC43-4288-43EF-8122-E14DBD1A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DEF7-BC58-4845-A56A-483FE26E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F5DD-67FB-438C-B1FE-9A841CA2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B2E5-14AE-4B5C-B821-9AF48541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B664-2DA6-4857-85AD-DD93B01D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C7F9-6714-4780-981B-AF6C8518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F0DC5-E97D-4A48-BEA7-CF0A52E1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CDB92-013A-4340-A747-E06BE692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D66F6-23ED-4E39-AB3E-BDC2E343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6D27D-1B2C-4BD4-9943-C35BE121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F7ED7-8E41-4961-B027-2C8E360D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1F806-60A5-474B-899D-F596F9B6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1BD1F-3E43-4B50-91FA-B78A908D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41B0-2AA6-4D2D-974A-373A07636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4DC3-96A9-4CA3-8EBB-D8BFD119F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Влияние мирового финансового кризиса 2008 года на Россию и ее регионы</a:t>
            </a:r>
            <a:br>
              <a:rPr sz="3600"/>
            </a:br>
            <a:r>
              <a:rPr b="1" i="1" lang="en-US" sz="2800" spc="-1" strike="noStrike">
                <a:solidFill>
                  <a:srgbClr val="990099"/>
                </a:solidFill>
                <a:latin typeface="Tahoma"/>
              </a:rPr>
              <a:t>(на примере Ульяновской области)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240" y="5562360"/>
            <a:ext cx="56386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304560"/>
            <a:ext cx="6933960" cy="617220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1914 год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ызван Первой мировой войной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изошел крах на всех рынках, как товарных, так и денежных.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304560"/>
            <a:ext cx="6705720" cy="609588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24 октября 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1929 год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591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именуемый «Черный четверг»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591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591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Начало  крупнейшего  в истории мирового экономического кризиса –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Великой депрессии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91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91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Кризис затронул большинство развивающихся стран. Продолжался до 1933 год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304560"/>
            <a:ext cx="6934320" cy="617220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ahoma"/>
              </a:rPr>
              <a:t>1973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ервый мировой энергетический кризи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который начался с подачи стран -  членов ОПЕК, снизивших объемы добычи нефти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атронул: США, Великобританию, Францию, Японию, Итали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304560"/>
            <a:ext cx="6858000" cy="609588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ahoma"/>
              </a:rPr>
              <a:t>Черный понедельник 1987 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год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9 октября 1987 года американский фондовый индекс Dow Jones Industrial обвалился на 22,6%. Вслед за американским рынком рухнули  рынки Австралии, Канады, Гонконг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зможная причина кризиса: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ток инвесторов с рынков после сильного снижения капитализации нескольких крупных компаний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304560"/>
            <a:ext cx="6629400" cy="609588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1998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год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‑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оссийский кризис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дин из самых тяжелы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экономических кризисов в истории России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ефолт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чины 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громный государственный долг России,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изкие мировые цены на сырье,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 algn="ctr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ирамида государственных краткосрочных облигаций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ировой кризис 1997-1998 гг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тронул и большинство развивающихся стран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Чехию, Малайзию, Таиланд, Индонезию, Южную Корею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28600"/>
            <a:ext cx="73915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Основные вопросы темы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3360" indent="-603360"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анализ причин современного мирового финансового кризиса в Росси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3360" indent="-603360"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оценка влияния мирового финансового кризиса на Ульяновскую область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3360" indent="-603360">
              <a:spcBef>
                <a:spcPts val="700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антикризисные меры правительств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19080">
            <a:solidFill>
              <a:srgbClr val="99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ahoma"/>
              </a:rPr>
              <a:t>кризис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-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Резкий, крутой перелом в чем-либо, тяжелое переходное состояние;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Острое затруднение с чем-либо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Тяжелое положение;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4. п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риод обострения противоречий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льшой энциклопедический словар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304920"/>
            <a:ext cx="73915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Кризисы подразделяются на: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экономически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итически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циальны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инансовые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нежно-кредитны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иржевые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грарны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ировы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22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19080">
            <a:solidFill>
              <a:srgbClr val="99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Экономический кризи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рушение  развития экономики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адение производства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догрузка производственных мощностей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ост безработицы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рушение денежно-кредитных и валютно-финансовых отношений и др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ольшой энциклопедический словарь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19080">
            <a:solidFill>
              <a:srgbClr val="99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ahoma"/>
              </a:rPr>
              <a:t>Финансовый кризис</a:t>
            </a:r>
            <a:r>
              <a:rPr b="1" i="1" lang="en-US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–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это глубокое расстройство государственной, финансовой, денежной систем.</a:t>
            </a:r>
            <a:br>
              <a:rPr sz="4000"/>
            </a:br>
            <a:br>
              <a:rPr sz="32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Финансовый словарь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304920"/>
            <a:ext cx="6248520" cy="632448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ahoma"/>
              </a:rPr>
              <a:t>1857</a:t>
            </a:r>
            <a:r>
              <a:rPr b="1" i="1" lang="en-US" sz="4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i="1" lang="en-US" sz="4800" spc="-1" strike="noStrike">
                <a:solidFill>
                  <a:srgbClr val="ff3300"/>
                </a:solidFill>
                <a:latin typeface="Garamond"/>
              </a:rPr>
              <a:t>год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вы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ировой экономический кризис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нёс удар народному хозяйству и общественной жизни  США, Германии, Англии и Франци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чиной послужили массов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анкротства железнодорожных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мпаний и обвал рынка акций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304920"/>
            <a:ext cx="6019560" cy="640080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1873 год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рупный международный финансовый кризи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мериканская и европейская экономика впали в фазу рецессии, экспорт стран Латинской Америки резко сократился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мый продолжительный в истории капитализма кризи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который завершился в 1878 году.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9840" y="304920"/>
            <a:ext cx="6248520" cy="632448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1900-1903 гг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Явились началом упадка в экономической сфере, затронувший большинство развитых стран и сопровождавшийся финансовыми крахами, закрытием предприятий и резким падением уровня производства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России кризис перерос в депрессию, которая длилась вплоть до 1909 года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13:23:07Z</dcterms:created>
  <dc:creator>Елена</dc:creator>
  <dc:description/>
  <dc:language>en-US</dc:language>
  <cp:lastModifiedBy>Елена</cp:lastModifiedBy>
  <dcterms:modified xsi:type="dcterms:W3CDTF">2009-05-28T06:50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