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9F14-5D0A-40AC-B92D-D8D854307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CBE4-D74B-4317-AB5C-B65DCCD01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002F-1E27-4EEB-8306-79E333CA2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F6A5-37DE-4D1F-988E-939DCE34E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93F55-38BF-410C-AB7C-AE6732C91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AD80D-D60F-48A8-BCF2-8D803FE26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7E6BF-98B9-4D6B-AB48-673FF5C27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9FD8A-55C0-48FE-865E-9F9AB7EB3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5EFE3-B875-475B-8F9D-D1652AD81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40AD0-11F4-4379-A23F-370BAD86A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C4502-5D45-4C26-ACDB-274E95BE1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D18C-AC8C-4D67-957C-4EF5764EC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D5D2D-F661-4C98-AF15-C4BB4EEF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56B10-A5DD-4F85-8134-D39A938DB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8EB49-5D16-465E-AECE-748EC29F4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ECDC4-477A-4AD6-90FB-901DE7703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11D22-B0A9-400C-9A66-D171D7AD9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F8DF-8156-4419-9BA6-B7A4D8D2B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7997-A57B-47C7-A1F8-B25A19753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9FD9-50C5-4EFC-88B7-687EB3F5F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674B-EEB4-4E62-8937-203E777FF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F0E3-8203-49A4-9855-76CCE519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2D8D-8B38-4B3D-9E20-C369B47F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682E-9CDD-4BC6-9C06-B6182DD94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5249E-F5B5-4C27-A995-3A5DA70B1FD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01141-4A34-4B2F-8B39-BB7739E52C6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907920"/>
            <a:ext cx="8532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АНАЛИЗ РЫНКА ИПОТЕЧНОГО КРЕДИТОВАНИЯ В УСЛОВИЯХ ФИНАНСОВОГО КРИЗИС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Рисунок 6. Финансирование ФЦП "Государственные жилищные сертификаты" в 1998-2003 гг. и планируемое финансирование подпрограммы "Государственные жилищные сертификаты" на 2004-10 гг.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39640" y="1989000"/>
            <a:ext cx="7777440" cy="439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Таблица 4 – Программы ипотечного кредитования Сбербанк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19040" y="1989000"/>
          <a:ext cx="8256600" cy="4676760"/>
        </p:xfrm>
        <a:graphic>
          <a:graphicData uri="http://schemas.openxmlformats.org/drawingml/2006/table">
            <a:tbl>
              <a:tblPr/>
              <a:tblGrid>
                <a:gridCol w="1755720"/>
                <a:gridCol w="1208160"/>
                <a:gridCol w="1814400"/>
                <a:gridCol w="1360440"/>
                <a:gridCol w="2117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потечная програм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ю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мальная сумма платеж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 креди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Ипотечный кредит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ли,Р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5 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—3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5-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лары С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—3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-1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Ипотечный+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ли,Р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—3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25-11,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лары С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—3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75-12,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редит на недвижимость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ли,Р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—3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5-1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лары С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—3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-1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Молодая Семья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ли,Р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—3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25-1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лары С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—3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75-1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0" y="574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Таблица  5 – Ипотечные программы в зависимости от максимального срока предоставления кредита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55640" y="1844640"/>
          <a:ext cx="7824960" cy="4843440"/>
        </p:xfrm>
        <a:graphic>
          <a:graphicData uri="http://schemas.openxmlformats.org/drawingml/2006/table">
            <a:tbl>
              <a:tblPr/>
              <a:tblGrid>
                <a:gridCol w="3153240"/>
                <a:gridCol w="1555200"/>
                <a:gridCol w="311652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альный срок кредито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ют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дит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мальные размеры процентных ставок, (% годовых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15 ле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 возврата кредита – до достижения пенсионного возраста (мужчины 60 лет, женщины 55 лет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ли Р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0/17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лары СШ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0/13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5 до 25 ле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 возврата кредита – до достижения пенсионного возраста (мужчины 60 лет, женщины 55 лет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ли Р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0/18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лары СШ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5/14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0" y="56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Таблица 6 - Условия предоставления кредит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182600" y="2017800"/>
          <a:ext cx="7772400" cy="4154400"/>
        </p:xfrm>
        <a:graphic>
          <a:graphicData uri="http://schemas.openxmlformats.org/drawingml/2006/table">
            <a:tbl>
              <a:tblPr/>
              <a:tblGrid>
                <a:gridCol w="4253040"/>
                <a:gridCol w="3519360"/>
              </a:tblGrid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ные ставки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1,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 кредитования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 до 50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иссия за рассмотрение заявки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200 руб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иссия за выдачу кредит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000 руб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потека без первоначального взно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рочное погашение без комисс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ез 3 месяц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Таблица 7 – Ипотечные программы Россельхозбанк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95280" y="2017800"/>
          <a:ext cx="8559720" cy="4755960"/>
        </p:xfrm>
        <a:graphic>
          <a:graphicData uri="http://schemas.openxmlformats.org/drawingml/2006/table">
            <a:tbl>
              <a:tblPr/>
              <a:tblGrid>
                <a:gridCol w="2149560"/>
                <a:gridCol w="1297080"/>
                <a:gridCol w="1593720"/>
                <a:gridCol w="1111320"/>
                <a:gridCol w="1052280"/>
                <a:gridCol w="13557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 / Програм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ю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 срок,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 взнос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 ставка % годов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потечный кредит по программе «Сельское подворье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ичное жил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рти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лой д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дит по программе АИЖ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ичное жил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рти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лой д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дитование жителей сельской местности на строитель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лучшение жилищных услов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549360"/>
            <a:ext cx="77929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Таблица 7 - Первоначальные условия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68360" y="2276640"/>
          <a:ext cx="8136000" cy="4033800"/>
        </p:xfrm>
        <a:graphic>
          <a:graphicData uri="http://schemas.openxmlformats.org/drawingml/2006/table">
            <a:tbl>
              <a:tblPr/>
              <a:tblGrid>
                <a:gridCol w="3154320"/>
                <a:gridCol w="2098800"/>
                <a:gridCol w="1490400"/>
                <a:gridCol w="1392480"/>
              </a:tblGrid>
              <a:tr h="865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вк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ер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зпром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Б, 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 Москв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ельхоз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Таблица 8 – Дифференцированный платеж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68360" y="2205000"/>
          <a:ext cx="7991280" cy="3844800"/>
        </p:xfrm>
        <a:graphic>
          <a:graphicData uri="http://schemas.openxmlformats.org/drawingml/2006/table">
            <a:tbl>
              <a:tblPr/>
              <a:tblGrid>
                <a:gridCol w="2320920"/>
                <a:gridCol w="1947960"/>
                <a:gridCol w="1950840"/>
                <a:gridCol w="1771560"/>
              </a:tblGrid>
              <a:tr h="1177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перепла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 от суммы креди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ер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47333,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47333,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5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зпром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20000,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32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Б, 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88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88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 Москв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555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555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ельхоз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69333,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69333,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0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792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Таблица 9 - Аннуитетный платеж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539640" y="1773360"/>
          <a:ext cx="8415360" cy="4679640"/>
        </p:xfrm>
        <a:graphic>
          <a:graphicData uri="http://schemas.openxmlformats.org/drawingml/2006/table">
            <a:tbl>
              <a:tblPr/>
              <a:tblGrid>
                <a:gridCol w="2038320"/>
                <a:gridCol w="1465560"/>
                <a:gridCol w="1709640"/>
                <a:gridCol w="1482840"/>
                <a:gridCol w="1719000"/>
              </a:tblGrid>
              <a:tr h="1445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нуит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пла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192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 от сумм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192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ди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ер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237,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848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848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2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зпром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113,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816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816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2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Б, 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457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256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248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2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 Москв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427,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136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136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2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ельхоз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957,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248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256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6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Таблица 11- Сравнение дифференцированного и 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аннуитетного платежей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68360" y="2017800"/>
          <a:ext cx="8486640" cy="4332240"/>
        </p:xfrm>
        <a:graphic>
          <a:graphicData uri="http://schemas.openxmlformats.org/drawingml/2006/table">
            <a:tbl>
              <a:tblPr/>
              <a:tblGrid>
                <a:gridCol w="2303280"/>
                <a:gridCol w="1584360"/>
                <a:gridCol w="1511280"/>
                <a:gridCol w="1584360"/>
                <a:gridCol w="1503360"/>
              </a:tblGrid>
              <a:tr h="76752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фференцированный плате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нуитеты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те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8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пла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 от сумм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ди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пла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 от сумм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ди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8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ер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47333,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5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848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2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 Москв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47333,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5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848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2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Б, 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88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256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ельхо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69333,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0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248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6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зпром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20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816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2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720" y="1773000"/>
            <a:ext cx="77724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Спасибо за</a:t>
            </a:r>
            <a:br>
              <a:rPr sz="7200"/>
            </a:b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7200"/>
            </a:b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внимание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15640" y="333000"/>
            <a:ext cx="77929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Задачи: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1773360"/>
            <a:ext cx="77724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Показать этапы развития рынка ипотечного кредитова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 Рассмотреть ипотеку как форму залога с точки зрения действующего российского законодательства, дать характеристику ипотеки и ипотечного кредитова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Рассмотреть ипотечные программы, которые представлены в современное время ведущими банками Росси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Выявить проблемы и определить перспективы развития института ипотек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3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3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55640" y="1053000"/>
            <a:ext cx="7777080" cy="46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Ипотека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(от греч.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hypotheka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– залог, заклад) </a:t>
            </a:r>
            <a:r>
              <a:rPr b="1" lang="ru-RU" sz="3600" spc="-1" strike="noStrike">
                <a:solidFill>
                  <a:srgbClr val="333399"/>
                </a:solidFill>
                <a:latin typeface="Times New Roman"/>
              </a:rPr>
              <a:t>— представляет собой залог недвижимости для обеспечения денежного требования кредитора-залогодержателя к должнику (залогодателю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280" y="214200"/>
            <a:ext cx="79722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Таблица 1 – Сравнение объемов ипотечных жилищных кредитов 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182600" y="2017800"/>
          <a:ext cx="7772400" cy="4235400"/>
        </p:xfrm>
        <a:graphic>
          <a:graphicData uri="http://schemas.openxmlformats.org/drawingml/2006/table">
            <a:tbl>
              <a:tblPr/>
              <a:tblGrid>
                <a:gridCol w="2589480"/>
                <a:gridCol w="2590560"/>
                <a:gridCol w="259236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екс роста ипотечного кредитова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г.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г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г./2008г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ли, Р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юта,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лары СШ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Таблица 2 –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Задолженность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по ипотеке в первом полугодии 2008-2009гг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182600" y="2017800"/>
          <a:ext cx="7772040" cy="4113720"/>
        </p:xfrm>
        <a:graphic>
          <a:graphicData uri="http://schemas.openxmlformats.org/drawingml/2006/table">
            <a:tbl>
              <a:tblPr/>
              <a:tblGrid>
                <a:gridCol w="2590200"/>
                <a:gridCol w="2591280"/>
                <a:gridCol w="2590560"/>
              </a:tblGrid>
              <a:tr h="117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ежная единиц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, рубли Р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4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, валюта СШ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6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Рисунок 2. Приоритетный национальный проект «Доступное и комфортное жилье – гражданам России»: индикаторы решения основных задач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908000" y="2060640"/>
            <a:ext cx="5616720" cy="2952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rcRect l="0" t="69966" r="0" b="0"/>
          <a:stretch/>
        </p:blipFill>
        <p:spPr>
          <a:xfrm>
            <a:off x="2195640" y="5157720"/>
            <a:ext cx="5143320" cy="127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Рисунок 3. Жилищные потребности населения (% от всех домохозяйств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00000" y="2133720"/>
            <a:ext cx="7201080" cy="42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Таблица 3 - Примеры расчетов ипотечных платежей при использовании материнского капитала[34]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84360" y="2017800"/>
          <a:ext cx="8270640" cy="4070160"/>
        </p:xfrm>
        <a:graphic>
          <a:graphicData uri="http://schemas.openxmlformats.org/drawingml/2006/table">
            <a:tbl>
              <a:tblPr/>
              <a:tblGrid>
                <a:gridCol w="406080"/>
                <a:gridCol w="1697040"/>
                <a:gridCol w="1160640"/>
                <a:gridCol w="787320"/>
                <a:gridCol w="1870200"/>
                <a:gridCol w="1173240"/>
                <a:gridCol w="1176120"/>
              </a:tblGrid>
              <a:tr h="116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членов семьи, в том числе несовершеннолет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кредита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.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 кредита,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жемесячный платеж до поступления суммы средств материнского капитала, руб.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енная из ПФ РФ сумма средств материнского капитала,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жемесячный платеж после зачисления суммы средств материнского капитала,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 в том числе дети 4 и 3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4 273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853,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9 731,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923,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 в том числе дети 4 и 2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 365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663,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9 731,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3,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 в том числе дети 10 и 2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1 809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914,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9 731,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781,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 в том числе дети 16, 8 и 2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0 6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966,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9 731,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779,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 в том числе дети 1 и 4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000 0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 094,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9 731,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 615,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Рисунок 5. Количество государственных жилищных сертификатов, выпущенных в рамках Программы в 1998-2003 гг. и планируемый выпуск сертификатов в рамках подпрограммы "Государственные жилищные сертификаты" на 2004-2010 гг.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042920" y="1930320"/>
            <a:ext cx="7345440" cy="437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0T18:10:50Z</dcterms:created>
  <dc:creator>Customer</dc:creator>
  <dc:description/>
  <dc:language>en-US</dc:language>
  <cp:lastModifiedBy>Customer</cp:lastModifiedBy>
  <dcterms:modified xsi:type="dcterms:W3CDTF">2010-02-14T14:07:21Z</dcterms:modified>
  <cp:revision>18</cp:revision>
  <dc:subject/>
  <dc:title>Таблица 1 – Сравнение объемов ипотечных жилищных кредитов на 2008-2009 гг. </dc:title>
</cp:coreProperties>
</file>