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BA4-E919-400D-8963-5B6A6F9A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420-0EB8-46D4-B26C-3C9D246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3C5-D103-4EE0-B3B5-C687CAAC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B6A-A752-4A97-A4F8-0187F02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CCE-32F1-43F5-BE5F-6BCDF41C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F69-2409-4235-8F54-A971D32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3F7-3189-4779-8441-984D060C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D67-5A7B-4900-A838-5059948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A65-D530-4315-9BCF-9A0CA54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C0F-1B69-4196-9AB8-6ED9E6B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B27-B563-47CB-8CBD-68BF4BB4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627-4BFB-4CEE-BDCE-395CBCD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A44-C759-4446-B981-D75703C4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00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066680"/>
            <a:ext cx="7543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 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й рост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00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752480" y="1371240"/>
            <a:ext cx="0" cy="4724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638680"/>
            <a:ext cx="6705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4197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419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057400"/>
            <a:ext cx="1295640" cy="2666880"/>
          </a:xfrm>
          <a:custGeom>
            <a:avLst/>
            <a:gdLst/>
            <a:ahLst/>
            <a:rect l="l" t="t" r="r" b="b"/>
            <a:pathLst>
              <a:path w="816" h="1680">
                <a:moveTo>
                  <a:pt x="0" y="0"/>
                </a:moveTo>
                <a:cubicBezTo>
                  <a:pt x="56" y="428"/>
                  <a:pt x="112" y="856"/>
                  <a:pt x="192" y="1104"/>
                </a:cubicBezTo>
                <a:cubicBezTo>
                  <a:pt x="272" y="1352"/>
                  <a:pt x="376" y="1392"/>
                  <a:pt x="480" y="1488"/>
                </a:cubicBezTo>
                <a:cubicBezTo>
                  <a:pt x="584" y="1584"/>
                  <a:pt x="760" y="1648"/>
                  <a:pt x="816" y="1680"/>
                </a:cubicBez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724280"/>
            <a:ext cx="1904760" cy="3812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5105520"/>
            <a:ext cx="1143000" cy="152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0" y="45720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ая Филлипса 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раткосрочном периоде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1013040" y="1139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55594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2600" y="56386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00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533520"/>
            <a:ext cx="769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обальная инфляция, 1970-2006 гг.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1281240"/>
          <a:ext cx="769608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81240"/>
                    <a:ext cx="76960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00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533520"/>
            <a:ext cx="769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тие мировой экономики в 2006 г.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1295280"/>
          <a:ext cx="7543800" cy="47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54380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00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533520"/>
            <a:ext cx="769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намика ВВП и инфляции в 1997-2006 гг.</a:t>
            </a:r>
            <a:endParaRPr b="0" lang="en-US" sz="1800" spc="1" strike="noStrike">
              <a:ln w="0">
                <a:noFill/>
              </a:ln>
              <a:solidFill>
                <a:srgbClr val="66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371600"/>
          <a:ext cx="76960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696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V="1">
            <a:off x="3581280" y="4191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410080" y="4191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ilya</cp:lastModifiedBy>
  <dcterms:modified xsi:type="dcterms:W3CDTF">2007-06-04T12:55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