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CDB8-2B11-42A2-8513-E56F0273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4AA6-E545-4AEA-9EF8-9547FD2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AAE5-97AD-4D01-A707-77630867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F127-089C-4F43-B5B5-7F9347E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60C-DE77-4FCC-8610-F36691D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514-7249-46AB-BF5C-2CB5EC5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2AC-40C0-4B8D-9416-A4538EE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7A81-F85C-4235-BA7A-F78E123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15A-A50E-41F7-9CDC-D0221910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1131-61B9-42C9-8B90-22F48A4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E9A-EE13-4521-96D8-5893443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E365-726C-4AC8-B71D-DE653B44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2CB-6E2C-485D-B876-96E417B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A43-99BC-491E-8431-79FDCD3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D6F2-6BB7-4458-8D2A-AAC0F49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64F-CE45-4359-A0BA-77A046A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0A2E-E972-4836-B000-8F89A480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0BC7-1160-4DBB-8550-B29C92B2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C168-1F17-43C3-B40C-967C03D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F6F7-5ED0-4C70-92C6-B1B17967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509C-EAFD-4B62-B3FD-BE448064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60B0-D262-4E92-B8C6-E277831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435C-E6D8-4E30-B5A3-2B2EA49D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B5CF-CCEB-43CA-AC57-61A7872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368-B04F-44DA-A3F2-A4CAA7C40A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36D-B795-45AC-A995-CA42E35E1D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762120" y="45720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оизводственная практик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533520" y="2666880"/>
            <a:ext cx="7858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ыполнил студен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группы ММ-02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Басалаев Е.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уководитель: Пастухова Ю.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Курс евро в апреле 2010 года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457200"/>
          <a:ext cx="8229600" cy="6175440"/>
        </p:xfrm>
        <a:graphic>
          <a:graphicData uri="http://schemas.openxmlformats.org/drawingml/2006/table">
            <a:tbl>
              <a:tblPr/>
              <a:tblGrid>
                <a:gridCol w="4167360"/>
                <a:gridCol w="406224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на (руб/1 евро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57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7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6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6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6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3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6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1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1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5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48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6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4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7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7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7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2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87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8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8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Курс евро в мае 2010 года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drawingml/2006/table">
            <a:tbl>
              <a:tblPr/>
              <a:tblGrid>
                <a:gridCol w="3703680"/>
                <a:gridCol w="452592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на (руб/1 евро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6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51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68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9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9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9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95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5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8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7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7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7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76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62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42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04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1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1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1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62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60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51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99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63р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5e5ff"/>
                </a:solidFill>
                <a:latin typeface="Garamond"/>
              </a:rPr>
              <a:t>График изменения курса евро</a:t>
            </a:r>
            <a:br>
              <a:rPr sz="2300"/>
            </a:br>
            <a:r>
              <a:rPr b="0" lang="en-US" sz="2300" spc="-1" strike="noStrike">
                <a:solidFill>
                  <a:srgbClr val="e5e5ff"/>
                </a:solidFill>
                <a:latin typeface="Garamond"/>
              </a:rPr>
              <a:t> в период с 1.04.10 по 29.05.10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457200" y="1012680"/>
          <a:ext cx="822960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12680"/>
                    <a:ext cx="82296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04920" y="228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 том, что данные распределены нормаль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812"/>
          <p:cNvSpPr/>
          <p:nvPr/>
        </p:nvSpPr>
        <p:spPr>
          <a:xfrm>
            <a:off x="914400" y="5181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600" cy="59544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  <a:gridCol w="1600200"/>
                <a:gridCol w="1371600"/>
                <a:gridCol w="1295280"/>
                <a:gridCol w="1143000"/>
              </a:tblGrid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00-37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50-38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00-38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50-39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00-39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50-4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514600" y="2590920"/>
          <a:ext cx="4038480" cy="1143000"/>
        </p:xfrm>
        <a:graphic>
          <a:graphicData uri="http://schemas.openxmlformats.org/drawingml/2006/table">
            <a:tbl>
              <a:tblPr/>
              <a:tblGrid>
                <a:gridCol w="2044800"/>
                <a:gridCol w="199368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847457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6550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6045676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14600" y="3962520"/>
          <a:ext cx="4038480" cy="838080"/>
        </p:xfrm>
        <a:graphic>
          <a:graphicData uri="http://schemas.openxmlformats.org/drawingml/2006/table">
            <a:tbl>
              <a:tblPr/>
              <a:tblGrid>
                <a:gridCol w="2114640"/>
                <a:gridCol w="192384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наб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,172180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табл[0,05;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22860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А) 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 G1=G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914400" y="5562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971800" y="1600200"/>
          <a:ext cx="3124080" cy="3657600"/>
        </p:xfrm>
        <a:graphic>
          <a:graphicData uri="http://schemas.openxmlformats.org/drawingml/2006/table">
            <a:tbl>
              <a:tblPr/>
              <a:tblGrid>
                <a:gridCol w="1712880"/>
                <a:gridCol w="1411200"/>
              </a:tblGrid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в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226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920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^2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95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в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3937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595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^2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687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наб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8229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табл[0,05,28,29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7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22860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 M1=M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914400" y="57913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95480" y="1752480"/>
          <a:ext cx="3505320" cy="3380040"/>
        </p:xfrm>
        <a:graphic>
          <a:graphicData uri="http://schemas.openxmlformats.org/drawingml/2006/table">
            <a:tbl>
              <a:tblPr/>
              <a:tblGrid>
                <a:gridCol w="1920960"/>
                <a:gridCol w="15843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9,226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920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952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2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8,3937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2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2595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2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2687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наб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,4638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6,5538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табл[31,0,05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,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22860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ритерий медиа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914400" y="5562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1676520"/>
          <a:ext cx="5029200" cy="3657600"/>
        </p:xfrm>
        <a:graphic>
          <a:graphicData uri="http://schemas.openxmlformats.org/drawingml/2006/table">
            <a:tbl>
              <a:tblPr/>
              <a:tblGrid>
                <a:gridCol w="1562400"/>
                <a:gridCol w="1684080"/>
                <a:gridCol w="1782720"/>
              </a:tblGrid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ИКВнаб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,3954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ИКВтаб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04920" y="228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рессионный анали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905120" y="5029200"/>
            <a:ext cx="1685880" cy="1657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4800600" y="495288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  - уравнение регресс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^2 –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личина достоверности аппроксим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380880" y="609480"/>
          <a:ext cx="82296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82296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рреляционное пол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609480" y="1523880"/>
          <a:ext cx="808668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86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9"/>
          <p:cNvSpPr/>
          <p:nvPr/>
        </p:nvSpPr>
        <p:spPr>
          <a:xfrm>
            <a:off x="2057400" y="5562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эффициент корреляции рав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0,5224286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Garamond"/>
              </a:rPr>
              <a:t>Курс рубля РФ по отношению к доллару США в апреле 2010 год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457200"/>
          <a:ext cx="8229600" cy="6141960"/>
        </p:xfrm>
        <a:graphic>
          <a:graphicData uri="http://schemas.openxmlformats.org/drawingml/2006/table">
            <a:tbl>
              <a:tblPr/>
              <a:tblGrid>
                <a:gridCol w="4167360"/>
                <a:gridCol w="406224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Цена (руб/1 доллар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5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44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1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4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9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4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3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3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3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8,94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4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8,9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4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2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9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3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4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7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5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7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6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7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7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9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8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38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.04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29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Цена (руб/1 доллар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3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68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3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0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2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3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2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8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39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0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2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3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4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06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5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88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6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43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7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35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8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88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.05.20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50 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2"/>
          <p:cNvSpPr/>
          <p:nvPr/>
        </p:nvSpPr>
        <p:spPr>
          <a:xfrm>
            <a:off x="457200" y="-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Garamond"/>
              </a:rPr>
              <a:t>Курс рубля РФ по отношению к доллару США в мае 2010 год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5e5ff"/>
                </a:solidFill>
                <a:latin typeface="Garamond"/>
              </a:rPr>
              <a:t>График изменения курса доллара</a:t>
            </a:r>
            <a:br>
              <a:rPr sz="2300"/>
            </a:br>
            <a:r>
              <a:rPr b="0" lang="en-US" sz="2300" spc="-1" strike="noStrike">
                <a:solidFill>
                  <a:srgbClr val="e5e5ff"/>
                </a:solidFill>
                <a:latin typeface="Garamond"/>
              </a:rPr>
              <a:t> в период с 1.04.10 по 29.05.10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7" name="Object 13"/>
          <p:cNvGraphicFramePr/>
          <p:nvPr/>
        </p:nvGraphicFramePr>
        <p:xfrm>
          <a:off x="609480" y="1166760"/>
          <a:ext cx="8229600" cy="437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66760"/>
                    <a:ext cx="82296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228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 том, что данные распределены нормаль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143000"/>
          <a:ext cx="8229600" cy="549360"/>
        </p:xfrm>
        <a:graphic>
          <a:graphicData uri="http://schemas.openxmlformats.org/drawingml/2006/table">
            <a:tbl>
              <a:tblPr/>
              <a:tblGrid>
                <a:gridCol w="1219320"/>
                <a:gridCol w="1371600"/>
                <a:gridCol w="1447560"/>
                <a:gridCol w="1524240"/>
                <a:gridCol w="1295280"/>
                <a:gridCol w="137160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8,50-29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00-29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50-3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00-30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50-31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1,00-31,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2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9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124080" y="3886200"/>
          <a:ext cx="2971800" cy="5335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</a:tblGrid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Fнаб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5,211962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Fтабл[0,05;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27560" y="2438280"/>
          <a:ext cx="2363760" cy="824040"/>
        </p:xfrm>
        <a:graphic>
          <a:graphicData uri="http://schemas.openxmlformats.org/drawingml/2006/table">
            <a:tbl>
              <a:tblPr/>
              <a:tblGrid>
                <a:gridCol w="977760"/>
                <a:gridCol w="1386000"/>
              </a:tblGrid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792372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5532892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7438341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51"/>
          <p:cNvSpPr/>
          <p:nvPr/>
        </p:nvSpPr>
        <p:spPr>
          <a:xfrm>
            <a:off x="914400" y="5181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22860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А) 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 G1=G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820960" y="1676520"/>
          <a:ext cx="4038480" cy="338616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97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210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217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3489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4498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4659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Fнаб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,4208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Fтабл[0,05,28,29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,87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150"/>
          <p:cNvSpPr/>
          <p:nvPr/>
        </p:nvSpPr>
        <p:spPr>
          <a:xfrm>
            <a:off x="914400" y="5562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04920" y="22860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 M1=M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24080" y="1525680"/>
          <a:ext cx="3353040" cy="4057560"/>
        </p:xfrm>
        <a:graphic>
          <a:graphicData uri="http://schemas.openxmlformats.org/drawingml/2006/table">
            <a:tbl>
              <a:tblPr/>
              <a:tblGrid>
                <a:gridCol w="1768680"/>
                <a:gridCol w="1584360"/>
              </a:tblGrid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9,197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210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0217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в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3489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4498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^2[2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,4659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наб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-8,8872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0,70428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табл[31,0,05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,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268"/>
          <p:cNvSpPr/>
          <p:nvPr/>
        </p:nvSpPr>
        <p:spPr>
          <a:xfrm>
            <a:off x="914400" y="57913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22860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 о том, что данные взяты из одной генеральной совокуп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ритерий медиа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1752480"/>
          <a:ext cx="4647960" cy="2732040"/>
        </p:xfrm>
        <a:graphic>
          <a:graphicData uri="http://schemas.openxmlformats.org/drawingml/2006/table">
            <a:tbl>
              <a:tblPr/>
              <a:tblGrid>
                <a:gridCol w="1109520"/>
                <a:gridCol w="1633680"/>
                <a:gridCol w="190476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ИКВнаб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3,27356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ХИКВтаб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56"/>
          <p:cNvSpPr/>
          <p:nvPr/>
        </p:nvSpPr>
        <p:spPr>
          <a:xfrm>
            <a:off x="914400" y="5562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потеза отвергну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04920" y="228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рессионный анали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Object 12"/>
          <p:cNvGraphicFramePr/>
          <p:nvPr/>
        </p:nvGraphicFramePr>
        <p:xfrm>
          <a:off x="457200" y="609480"/>
          <a:ext cx="8229600" cy="43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22960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15" descr=""/>
          <p:cNvPicPr/>
          <p:nvPr/>
        </p:nvPicPr>
        <p:blipFill>
          <a:blip r:embed="rId3"/>
          <a:stretch/>
        </p:blipFill>
        <p:spPr>
          <a:xfrm>
            <a:off x="1905120" y="5029200"/>
            <a:ext cx="1685880" cy="16574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800600" y="495288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  - уравнение регресс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^2 –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личина достоверности аппроксим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6-28T16:35:1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