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26028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09480" y="1676520"/>
            <a:ext cx="7848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23274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510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ИПЛОМ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03480" y="385128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ема: «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ценка финансового состояния предприятия и разработка мероприятий по его улучшению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3341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9640" y="692280"/>
          <a:ext cx="8209080" cy="578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692280"/>
                    <a:ext cx="82090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84360" y="18900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намика показателей рентаб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8000" y="6465960"/>
            <a:ext cx="21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оговая оценка финансового положения и результат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 ОАО "Нижнекамскшина" за 2006-07 г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43640" y="639432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1658880"/>
            <a:ext cx="907272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оговая оценка финансового положения и результатов деятельности предприятия представляет средневзвешенное значение качества ключевых показателей, оцененных по 5 балльной шкале от -2 (очень плохо) до +2 (идеаль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инансовое положение ОАО "Нижнекамскшина"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инансовые результаты ОАО "Нижнекамскшина"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х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333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роприятия, предлагаемые для улучшения финансового состояния пред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76360"/>
            <a:ext cx="878544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о эффективное управление долгами, в част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эффективных мер по взысканию долгов с дебиторов, переуступке и продаже долгов (примене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ханизма факторин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реструктуризация, конвертация, капитализация кредиторской задолженности с целью улучшения структуры баланса  ОАО «Нижнекамскшина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бездефицитных финансовых планов по текущей деятельности, согласованных с планами производства и реализации проду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ждение наиболее дешевых внешних источников финансирования при максимальном использовании гарантий, поручительств и з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оборотным капиталом, направленное на выполнение производственных задач при минимальных размерах текущих запасов и затр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действенного финансового контроля в контакте внутренним ауди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08720" y="6453360"/>
            <a:ext cx="17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89080" y="44280"/>
            <a:ext cx="97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эффекта от использования механизма фактор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557280"/>
          <a:ext cx="8424720" cy="5478480"/>
        </p:xfrm>
        <a:graphic>
          <a:graphicData uri="http://schemas.openxmlformats.org/drawingml/2006/table">
            <a:tbl>
              <a:tblPr/>
              <a:tblGrid>
                <a:gridCol w="1368360"/>
                <a:gridCol w="1366920"/>
                <a:gridCol w="1368360"/>
                <a:gridCol w="1728720"/>
                <a:gridCol w="1079640"/>
                <a:gridCol w="15127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долга по кредиту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ый платеж в погашение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до окончания срока кредитования, ме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ставк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я от досрочного погашения, тыс.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анк «МК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 35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 6 мес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8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анк «ВТ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 64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 3 мес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анк «МД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 25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 10 мес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 2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7236000" y="638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333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и задачи диплом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973800"/>
            <a:ext cx="896472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работка мероприятий по улучш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ого состояния ОАО «Нижнекамскшина» на осно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я современных методов финансового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теоретических основ анализа финансового состоя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отрасли и положения предприятия на рын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анализа финансово-хозяйственной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енная итоговая оценка финансового положе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ов деятельности предприят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основных направлений и мероприятий по улучш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ого состоя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6381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7993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нансовое состоя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ражает состояние капитала в процессе его кругооборота и способность субъекта хозяйствования к саморазвитию на фиксированный момент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00360" y="2421000"/>
            <a:ext cx="71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492280"/>
            <a:ext cx="648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3357720"/>
            <a:ext cx="41036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хороше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финансовое состоя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ффективное использование ресур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полностью и в срок отвечать по своим обязательств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аточность собственных средств, устойчивая прибыль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3357720"/>
            <a:ext cx="3744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лохо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финансовое состоя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удовлетворительная платежеспособ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эффективное использование и размещение сред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ет к банкротству - устойчивой неспособности предприятия отвечать по своим обязательств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70920" y="645336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451640" y="63943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5076720" cy="38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333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АО «Нижнекамск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12840"/>
            <a:ext cx="421164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одно из крупнейших предприятий по выпуску шин в России и странах СН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контролирующим акционером является холдинг Татнефть-Нефтех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главным потребителем продукции Нижекамскшины является АвтоВ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32000" y="4222800"/>
          <a:ext cx="6635520" cy="2158920"/>
        </p:xfrm>
        <a:graphic>
          <a:graphicData uri="http://schemas.openxmlformats.org/drawingml/2006/table">
            <a:tbl>
              <a:tblPr/>
              <a:tblGrid>
                <a:gridCol w="5111640"/>
                <a:gridCol w="15238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6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з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9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хозяйственные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332000" y="1123920"/>
          <a:ext cx="6624720" cy="2089080"/>
        </p:xfrm>
        <a:graphic>
          <a:graphicData uri="http://schemas.openxmlformats.org/drawingml/2006/table">
            <a:tbl>
              <a:tblPr/>
              <a:tblGrid>
                <a:gridCol w="5129640"/>
                <a:gridCol w="1495080"/>
              </a:tblGrid>
              <a:tr h="50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Нижнекамскнефтехи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Нижнекамсктехуглерод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Нордия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8a6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332000" y="4762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поставщики ОАО «Нижнекамскшины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357336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уктура производства ОАО «Нижнекамскшины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6453360"/>
            <a:ext cx="14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0080" y="765000"/>
          <a:ext cx="8935920" cy="5423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80" y="765000"/>
                    <a:ext cx="893592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804000" y="645336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4520" y="833400"/>
          <a:ext cx="7989840" cy="558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520" y="833400"/>
                    <a:ext cx="798984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4360" y="189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намика показателей ликви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21440" y="6465960"/>
            <a:ext cx="23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09520" y="770040"/>
          <a:ext cx="8755200" cy="56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20" y="770040"/>
                    <a:ext cx="875520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68360" y="260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намика показателей структуры капи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6465960"/>
            <a:ext cx="215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79280" y="1052640"/>
          <a:ext cx="8817120" cy="518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052640"/>
                    <a:ext cx="88171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11280" y="26028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намика показателей делов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6465960"/>
            <a:ext cx="30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ЙД №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8:03:54Z</dcterms:created>
  <dc:creator>студент</dc:creator>
  <dc:description/>
  <dc:language>en-US</dc:language>
  <cp:lastModifiedBy>Admin</cp:lastModifiedBy>
  <dcterms:modified xsi:type="dcterms:W3CDTF">2010-07-01T12:08:40Z</dcterms:modified>
  <cp:revision>30</cp:revision>
  <dc:subject/>
  <dc:title>Слайд 1</dc:title>
</cp:coreProperties>
</file>