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F517-BE00-41FB-84DA-CDC4E2B8B9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6598-71C4-49E0-9C2B-B9381C0D2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684-7099-4EBF-B011-C8F3A7F9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417-8E68-4C04-96E0-36B5792C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738-68B7-48B4-86D1-85D030E4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A93-A5C9-433E-9056-D1859528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C144-9B45-480C-A69D-DA158089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8D46-B2EE-43BB-AD1F-B38EDD21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0B42-AB98-451A-8915-CD170BCD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2972-5310-46B6-BE6D-79D4476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BAFD-0C8C-4F08-A8A5-76CF2742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EBE1-921D-42D0-9777-C151AFFE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71EC-0A8D-4CD3-A2BD-C82EEB6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C58-7C1B-4E50-A5DC-ADEB0950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CEB1-6263-4106-9937-24183B4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529F-69F7-4FAB-834E-89AEEAF2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5D9C-6F2A-4DE6-937F-63C9019E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378A-F084-485E-949B-7D42EE73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191-21EB-4E39-AC91-4DF1B306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426B-7242-4311-AD03-CC1C89CC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1101-EB6F-4205-B1D7-6A76F72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AE3D-C21E-4CEA-B441-6120182C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005D-6F28-49EA-BA66-3E355E1F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2702-469C-4C81-88E2-B96BC36B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B57-80EE-40CB-A259-8E2FF5CD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C7E8-0CD5-4652-A655-654153DC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EB0B-F50A-47DF-9FEB-BC7DAB0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5809-91C5-4CB7-8E77-BE0404D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3993-AE44-46DC-9F3F-08A6874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FB7E-4611-41DF-B403-06F2910A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FBFC-DC38-491A-B9AC-FB1AAC43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0F79-DDB3-44F4-865A-3B1F5799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8E08-6361-4CAC-B2EC-B3A72772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4531-C363-47F7-8AC3-BF0A9CB2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29D1-7D20-49A7-A0B1-2E3E94F2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E99-3954-4037-A8FC-8E2CE3E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F8C5-4D62-4AB5-B0E7-CC538DE3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EC0AF-C690-41A4-A40E-E3C8A61F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A09BB-BEB2-4EEA-935F-E2819851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00E0-6A88-4414-9650-26AD08D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5A25-C693-478F-8D33-8EEBECC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07378-71B1-4DB1-B5F6-DF5D26C9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E8A6-771C-4624-BF3E-B2E9A6D0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AA71-C84B-403B-8859-0A8C4483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17AA-0C52-4CB0-BDDC-3F82821C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73E-2BBD-41BA-8691-DBBBF95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53A-4764-4921-A18D-9BDC5E01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06E-3A79-432A-B0E8-6471DB2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947-BFCF-48B9-83D8-37797CE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C39-6A42-4C3E-9F2F-A32614CA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91663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F886-721A-4588-986F-CAB578B7DC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91663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CC33-7187-40D3-B742-13E6B5C6AC8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91663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AE6D-8F95-473D-92B8-0A631C22438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692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5320" y="5358600"/>
            <a:ext cx="1540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10800" y="5815440"/>
            <a:ext cx="91663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17E2-9EE9-4238-8993-F61B3B0CA1E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42600" y="19288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калаврская работ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удентки  Камневой Екатерины Ивановн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onstantia"/>
              </a:rPr>
              <a:t>На тему: </a:t>
            </a:r>
            <a:r>
              <a:rPr b="1" lang="ru-RU" sz="3200" spc="-1" strike="noStrike">
                <a:solidFill>
                  <a:srgbClr val="dbf5f9"/>
                </a:solidFill>
                <a:latin typeface="Constantia"/>
              </a:rPr>
              <a:t>«Анализ и оценка финансовой устойчивости предприятия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оводитель 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арший преподаватель Алексикова Елена Вячеславо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78920"/>
            <a:ext cx="91440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истерство образования  и науки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высшего профессионального образования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дународный университет природы, общества и человека «Дуб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лиал «Протви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42920" y="404640"/>
            <a:ext cx="7489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9900cc"/>
                </a:solidFill>
                <a:latin typeface="Sylfaen"/>
              </a:rPr>
              <a:t>Мероприятия для устранения недостатков деятельности ОАО «Актив Плюс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1341360"/>
            <a:ext cx="763272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900cc"/>
                </a:solidFill>
                <a:latin typeface="Sylfaen"/>
              </a:rPr>
              <a:t>1. По управлению оборотным капитало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проведение претензионно-исковой работы с покупателями и заказчиками за просрочку платежей (в случае неуплаты в течение месяца заказчик должен дополнительно оплатить штраф, величина которого зависит от момента оплат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разработка технических мероприятий, обеспечивающих возможность индивидуального воздействия на потребителя в зависимости от его платежеспособности (отказ от заказов неплатежеспособным покупателям и заказчик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рассмотреть как поощрительную меру для покупателей, который регулярно оплачивает счета  (снижать наценку на материалы, предоставлять скидки в случае оплаты продукции в течении 10 дней с момента ее отгрузк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900cc"/>
                </a:solidFill>
                <a:latin typeface="Sylfaen"/>
              </a:rPr>
              <a:t>2. По управлению заемным капитало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 продажа дебиторской задолженности (при реализации товара в кредит, продавец может получить незамедлительную оплату от факторингового банка с дисконтом 15-50%, в зависимости от кредитоспособности покупателя и качества товар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сокращения задолженности перед работниками за счет реализации продовольственных и промышленных това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использование долгосрочных займов для расширения производствен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900cc"/>
                </a:solidFill>
                <a:latin typeface="Sylfaen"/>
              </a:rPr>
              <a:t>3. По </a:t>
            </a:r>
            <a:r>
              <a:rPr b="1" i="1" lang="en-US" sz="1500" spc="-1" strike="noStrike">
                <a:solidFill>
                  <a:srgbClr val="9900cc"/>
                </a:solidFill>
                <a:latin typeface="Sylfaen"/>
              </a:rPr>
              <a:t> </a:t>
            </a:r>
            <a:r>
              <a:rPr b="1" i="1" lang="ru-RU" sz="1500" spc="-1" strike="noStrike">
                <a:solidFill>
                  <a:srgbClr val="9900cc"/>
                </a:solidFill>
                <a:latin typeface="Sylfaen"/>
              </a:rPr>
              <a:t>управлению</a:t>
            </a:r>
            <a:r>
              <a:rPr b="1" i="1" lang="en-US" sz="1500" spc="-1" strike="noStrike">
                <a:solidFill>
                  <a:srgbClr val="9900cc"/>
                </a:solidFill>
                <a:latin typeface="Sylfaen"/>
              </a:rPr>
              <a:t> </a:t>
            </a:r>
            <a:r>
              <a:rPr b="1" i="1" lang="ru-RU" sz="1500" spc="-1" strike="noStrike">
                <a:solidFill>
                  <a:srgbClr val="9900cc"/>
                </a:solidFill>
                <a:latin typeface="Sylfaen"/>
              </a:rPr>
              <a:t>собственным капиталом</a:t>
            </a:r>
            <a:r>
              <a:rPr b="1" i="1" lang="en-US" sz="1500" spc="-1" strike="noStrike">
                <a:solidFill>
                  <a:srgbClr val="9900cc"/>
                </a:solidFill>
                <a:latin typeface="Sylfae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увеличение нераспределенной прибыли и резервов путем перехода на упрощенную систему учета и отчет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-подъем рентабельности с помощью контроля затрат и использования дешевых материа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cc"/>
                </a:solidFill>
                <a:latin typeface="Sylfaen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cc"/>
                </a:solidFill>
                <a:latin typeface="Sylfae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cc"/>
                </a:solidFill>
                <a:latin typeface="Sylfaen"/>
              </a:rPr>
              <a:t>ВНИМАНИЕ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108000" y="248400"/>
            <a:ext cx="87868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Sylfaen"/>
              </a:rPr>
              <a:t>Цель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Анализ эффективности финансовой устойчивости предприятия в сложившихся  условиях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800" y="5040"/>
            <a:ext cx="18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52360" y="4023360"/>
            <a:ext cx="849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800" y="4203360"/>
            <a:ext cx="18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179280" y="2112120"/>
            <a:ext cx="8785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Sylfaen"/>
              </a:rPr>
              <a:t>Для реализации поставленной цели в работе решались следующие задачи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arenR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Анализ финансовой устойчивости предприятия за два года на основе финансовых документов ОАО «Актив Плюс»: бухгалтерского баланса, отчета о прибылях и убы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arenR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Разработка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мероприятий по совершенствованию эффективности финансовой устойчивости пред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-25740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Sylfaen"/>
              </a:rPr>
              <a:t>Характеристика ОАО «Актив Плю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280400" y="748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042920" y="1278720"/>
            <a:ext cx="682488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Sylfaen"/>
              </a:rPr>
              <a:t>      </a:t>
            </a:r>
            <a:r>
              <a:rPr b="1" i="1" lang="en-US" sz="2400" spc="-1" strike="noStrike">
                <a:solidFill>
                  <a:srgbClr val="9900cc"/>
                </a:solidFill>
                <a:latin typeface="Sylfaen"/>
              </a:rPr>
              <a:t>ОАО «Актив Плюс» -</a:t>
            </a:r>
            <a:r>
              <a:rPr b="1" i="1" lang="en-US" sz="2000" spc="-1" strike="noStrike">
                <a:solidFill>
                  <a:srgbClr val="9900cc"/>
                </a:solidFill>
                <a:latin typeface="Sylfae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lfaen"/>
              </a:rPr>
              <a:t>предприятие, осуществляющее производство, обслуживание и ремонт систем управления зенитно-ракетных и артиллерийских комплексов, аппаратуры  управления крылатыми  ракетами, средств технического обслуживания и учебно-технических средств систем управления, телевизионных систем наблюдения, радиолокационного оборудования и ЗИП к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lfae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Sylfaen"/>
              </a:rPr>
              <a:t>А также предприятие выпускает гражданскую продукцию – энергосберегающее электрооборудование для  городского (метро) и междугороднего (тепловозы) транспорта, товары народного потребления – электробытовые приб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0" y="-1437840"/>
            <a:ext cx="91440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Sylfaen"/>
              </a:rPr>
              <a:t>Соотношение коэффициентов ликвидности  2008-200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32000" y="2060640"/>
          <a:ext cx="6697440" cy="32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060640"/>
                    <a:ext cx="669744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5373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Рисунок 2.1. Соотношение коэффициентов ликвидности 2008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62064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620640"/>
            <a:ext cx="829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Sylfaen"/>
              </a:rPr>
              <a:t>Динамика и рентабельность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1197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Коэффициенты рентабельности собственного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120760" y="1700280"/>
          <a:ext cx="4972320" cy="1730160"/>
        </p:xfrm>
        <a:graphic>
          <a:graphicData uri="http://schemas.openxmlformats.org/drawingml/2006/table">
            <a:tbl>
              <a:tblPr/>
              <a:tblGrid>
                <a:gridCol w="1587600"/>
                <a:gridCol w="863640"/>
                <a:gridCol w="873000"/>
                <a:gridCol w="1648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Коэффиц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00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тклонения  (+,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RO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5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ROS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4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0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-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92360" y="3500280"/>
          <a:ext cx="5933880" cy="258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500280"/>
                    <a:ext cx="59338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0" y="471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602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Рисунок 2.2. Динамика рентабельности собственного капитала 2008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Sylfaen"/>
              </a:rPr>
              <a:t>Абсолютные показатели финансовой устойчивости ОАО «Актив Плюс» за период с 2008 по 2009 год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773360"/>
          <a:ext cx="8229600" cy="4276440"/>
        </p:xfrm>
        <a:graphic>
          <a:graphicData uri="http://schemas.openxmlformats.org/drawingml/2006/table">
            <a:tbl>
              <a:tblPr/>
              <a:tblGrid>
                <a:gridCol w="5572080"/>
                <a:gridCol w="1406520"/>
                <a:gridCol w="1251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 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0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 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бщая величина запасов и зат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Наличие собственных оборо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Наличие собственных и долгосрочных заемных источников формирования запасов (функционирующий капита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бщая величина основных источников формирования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Ф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С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Ф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Ф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Ф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Трехкомпонентный показатель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S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{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 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{1,1,1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Sylfaen"/>
              </a:rPr>
              <a:t>Оборачиваемость оборотных средст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00000" y="1916280"/>
          <a:ext cx="7942320" cy="2881080"/>
        </p:xfrm>
        <a:graphic>
          <a:graphicData uri="http://schemas.openxmlformats.org/drawingml/2006/table">
            <a:tbl>
              <a:tblPr/>
              <a:tblGrid>
                <a:gridCol w="582480"/>
                <a:gridCol w="3179880"/>
                <a:gridCol w="1104840"/>
                <a:gridCol w="1104840"/>
                <a:gridCol w="1700280"/>
                <a:gridCol w="270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 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0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 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т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(+/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Выручка от реализации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9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9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+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Средний остаток оборотных средств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7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9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+2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just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борачиваемость оборотных средст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just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just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В д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-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0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Sylfaen"/>
              </a:rPr>
              <a:t>Коэффициенты деловой активности </a:t>
            </a:r>
            <a:br>
              <a:rPr sz="2800"/>
            </a:br>
            <a:r>
              <a:rPr b="1" i="1" lang="en-US" sz="2800" spc="-1" strike="noStrike">
                <a:solidFill>
                  <a:srgbClr val="9900cc"/>
                </a:solidFill>
                <a:latin typeface="Sylfaen"/>
              </a:rPr>
              <a:t>ОАО «Актив Плюс»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8360" y="1628640"/>
          <a:ext cx="8229600" cy="4765680"/>
        </p:xfrm>
        <a:graphic>
          <a:graphicData uri="http://schemas.openxmlformats.org/drawingml/2006/table">
            <a:tbl>
              <a:tblPr/>
              <a:tblGrid>
                <a:gridCol w="623880"/>
                <a:gridCol w="2697120"/>
                <a:gridCol w="1290600"/>
                <a:gridCol w="1173240"/>
                <a:gridCol w="1173240"/>
                <a:gridCol w="1033200"/>
                <a:gridCol w="2383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 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 кв. 200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тклоне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(+/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(д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тн.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борачиваемость активов,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- 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борачиваемость дебиторской задолженности, в д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+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борачиваемость кредиторской задолженности, в д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6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+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Оборачиваемость МПЗ, в д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Длительность операционного цикла, в д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+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Длительность финансового цикла, в д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2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+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76360" y="4636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Sylfaen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268280"/>
            <a:ext cx="8353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lfaen"/>
              </a:rPr>
              <a:t>Общая ликвидность соответствует общепринятой норме (1- 2). Срочная ликвидность занижена, но к     концу 2009 года возрастает и приближается к оптимальному значению (0,7–0,8). Абсолютная ликвидность не соответствует норме (0,2 – 0,25) и слишком заниж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lfaen"/>
              </a:rPr>
              <a:t>Таким образом, предприятие ОАО «Актив Плюс» к концу 2009 года обладает не слишком устойчивой структурой оборотных средств в отношении своих обязательств, что выражено в заниженных показателях абсолютной и срочной ликвид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lfaen"/>
              </a:rPr>
              <a:t>Увеличение рентабельности продаж на 2,17%, повлекло за собой улучшение финансового состояния предприятия. Причиной увеличения показателя рентабельности собственного капитала на 2,25 % послужило повышение рентабельности продукции в 2009 году на 1,64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lfaen"/>
              </a:rPr>
              <a:t>Расчет трехкомпонентного показателя позволяет сделать вывод, что и для 2008 года и для 2009 года характерна абсолютная финансовая устойчивость. ОАО «Актив Плюс»  использует все свои источники финансовых ресурсов и полностью покрывает запасы и  затра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lfaen"/>
              </a:rPr>
              <a:t>Оборачиваемость всех оборотных средств замедлилась в 2009 году по сравнению с 2008, что привело к замораживанию этих оборот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lfaen"/>
              </a:rPr>
              <a:t>Условия поставки сырья и материалов улучшились, так как увеличился срок кредита, предоставляемого поставщиком на 63 дня. Одновременно увеличился срок оплаты предоставляемой предприятием заказчику на 105 дней. В целом, отток денежных средств кредиторам превышает приток от дебиторов всего на 42 д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lfaen"/>
              </a:rPr>
              <a:t>Баланс  является ликвидным, но не абсолютным,  так как на расчетном счету отсутствуют денежные средства из-за больших долгов по налогам, сборам и взносам. Поэтому банки по распоряжению налоговой инспекции и внебюджетным фондам приостановили расчетно-платежные отношения. Вся денежная наличность идет на погашение дол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4:59:38Z</dcterms:created>
  <dc:creator>Olga</dc:creator>
  <dc:description/>
  <dc:language>en-US</dc:language>
  <cp:lastModifiedBy>Admin</cp:lastModifiedBy>
  <dcterms:modified xsi:type="dcterms:W3CDTF">2010-06-10T19:58:24Z</dcterms:modified>
  <cp:revision>28</cp:revision>
  <dc:subject/>
  <dc:title>Слайд 1</dc:title>
</cp:coreProperties>
</file>